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640-102B-4652-A199-476DAC9F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E1A-4693-45F6-B69D-608B282B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17D-869C-4C5C-AD6E-5820078C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5B2-9289-412C-BB4C-137D3A65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F4C-09EB-4255-A1F6-49C69DD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43F-7C4F-495C-A376-2EE444DC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0CF-A4A2-4553-952A-B1C22F64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589-329E-4B9C-8498-AD738DB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11C-6462-4121-98C7-7083C211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046-F347-4552-A67A-C00A0A66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8C6-1B3C-4471-BA48-C8C48A5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128-DAD9-4920-98D1-21D9C79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353-3D69-4351-92DF-E21D19CA670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2" descr="슬라이드-표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직사각형 4"/>
          <p:cNvSpPr/>
          <p:nvPr/>
        </p:nvSpPr>
        <p:spPr>
          <a:xfrm>
            <a:off x="0" y="3454560"/>
            <a:ext cx="9144000" cy="1071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95520" y="3679920"/>
            <a:ext cx="161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맑은 고딕"/>
              </a:rPr>
              <a:t>Key Deadlines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267080" y="3492360"/>
            <a:ext cx="2448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Abstract Submission Open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Abstract Submission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Notification of Acceptance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Paper Submission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맑은 고딕"/>
              </a:rPr>
              <a:t>Pre-Registration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415200" y="3492360"/>
            <a:ext cx="1800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맑은 고딕"/>
              </a:rPr>
              <a:t>August, 31  2010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맑은 고딕"/>
              </a:rPr>
              <a:t>January, 15  2011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맑은 고딕"/>
              </a:rPr>
              <a:t>March 31, 2011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맑은 고딕"/>
              </a:rPr>
              <a:t>May, 31  2011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맑은 고딕"/>
              </a:rPr>
              <a:t>May 31, 2011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-360" y="4519440"/>
            <a:ext cx="388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맑은 고딕"/>
              </a:rPr>
              <a:t>Composite Materials: Key to the Future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슬라이드-내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9:26:00Z</dcterms:created>
  <dc:creator>Windows XP</dc:creator>
  <dc:description/>
  <dc:language>en-US</dc:language>
  <cp:lastModifiedBy>Windows XP</cp:lastModifiedBy>
  <dcterms:modified xsi:type="dcterms:W3CDTF">2010-06-16T11:41:08Z</dcterms:modified>
  <cp:revision>4</cp:revision>
  <dc:subject/>
  <dc:title>슬라이드 1</dc:title>
</cp:coreProperties>
</file>